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870-90CC-4CB3-9B81-BE31402F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A12-5F30-46B9-99A5-1BD89846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F85-E73A-4A36-9039-F752D60A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E5F-CCB8-4EBE-8237-9771F659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9C1B-0E2B-4268-83AD-6BBE14A1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ACC-9313-43BB-A385-7A57912B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70C-BFCA-4A4F-8AB0-8ACE936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498-333A-4BEA-BCFE-9FCF4B2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6E3B-CE13-4C3A-B4BD-159617C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060C-8779-44F4-B5C4-2055EE33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ABF6-730E-483A-82B3-83EF890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D3B-F943-4AE2-B274-ADEC3FB0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A80-699F-4BEB-AA9A-241AD8A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3DB-F51E-449D-927C-C919156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21AC-6FF9-43EA-B659-9402C9A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922-B3A4-46C4-8491-0D3291CE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52CB-B7D3-4CA7-8B4D-A05D7CA4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F25-80E8-408A-9377-D6033A3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9FF-D4CD-47A7-B2BD-FB155CF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6A3-81CB-4BB0-A1DC-260860C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70C-7F2C-40E6-BBF8-70F5CF25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AA5-9931-4C3B-A134-16F4F54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276-2DCA-4A85-BB7D-0C42E16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98A-877C-420B-94B6-8CE18AF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2904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6E74-8686-460A-A317-194796D39ED5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697-4555-4060-9FC8-AD16DC68A02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60199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2" action="ppaction://hlinksldjump"/>
              </a:rPr>
              <a:t>Pair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2051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3" action="ppaction://hlinksldjump"/>
              </a:rPr>
              <a:t>Gramma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1148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4" action="ppaction://hlinksldjump"/>
              </a:rPr>
              <a:t>Group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819520"/>
            <a:ext cx="167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5" action="ppaction://hlinksldjump"/>
              </a:rPr>
              <a:t>First&amp;La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Rounded MT Bold"/>
              </a:rPr>
              <a:t>Wor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434340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What’s your nam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Francisc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i,Mary.I’m J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ello.I’m M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y name’s Jen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57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I’m Gina.Nice t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　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eet you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295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What’s your name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828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Francisc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4131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i,Mary.I’m J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03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ello.I’m Mar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87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My name’s Jenn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370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I’m Gina.Nice to meet you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Pair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AMMAR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erlin Sans FB Demi"/>
              </a:rPr>
              <a:t>Questions &amp; Answer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you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11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is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s name’s To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8308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e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er name’s Gina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6668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438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My name’s Jenny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’m Jen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914400"/>
            <a:ext cx="3048120" cy="4191120"/>
          </a:xfrm>
          <a:prstGeom prst="cloudCallout">
            <a:avLst>
              <a:gd name="adj1" fmla="val -63856"/>
              <a:gd name="adj2" fmla="val 58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’m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 am 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33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First name &amp; last nam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Name = First name + Last na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1905120"/>
            <a:ext cx="7162920" cy="901440"/>
            <a:chOff x="3352680" y="1905120"/>
            <a:chExt cx="7162920" cy="901440"/>
          </a:xfrm>
        </p:grpSpPr>
        <p:sp>
          <p:nvSpPr>
            <p:cNvPr id="203" name=""/>
            <p:cNvSpPr/>
            <p:nvPr/>
          </p:nvSpPr>
          <p:spPr>
            <a:xfrm>
              <a:off x="3352680" y="22860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Arial Black"/>
                </a:rPr>
                <a:t>Given name     Family nam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674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86400" cy="356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oup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716200"/>
            <a:ext cx="9144000" cy="4141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To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Li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55008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K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3004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Ton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73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Lind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1916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Ben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Kat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Ben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77320" y="1981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Words &amp; expression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1430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me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字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称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誉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命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提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叫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指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据以取名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fir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首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初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优先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um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开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比赛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冠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5244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la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后来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鞋楦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e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y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我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03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们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is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他的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95280" y="457056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et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集会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适宜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合适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6872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ook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脸色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面容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表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i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朝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好象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显得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打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用眼神表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期待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380880"/>
            <a:ext cx="6019920" cy="914400"/>
            <a:chOff x="1143000" y="380880"/>
            <a:chExt cx="6019920" cy="914400"/>
          </a:xfrm>
        </p:grpSpPr>
        <p:sp>
          <p:nvSpPr>
            <p:cNvPr id="234" name=""/>
            <p:cNvSpPr/>
            <p:nvPr/>
          </p:nvSpPr>
          <p:spPr>
            <a:xfrm>
              <a:off x="2057400" y="5158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clock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时钟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143000" y="380880"/>
              <a:ext cx="8841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143000" y="1779480"/>
            <a:ext cx="8001000" cy="1116720"/>
            <a:chOff x="1143000" y="1779480"/>
            <a:chExt cx="8001000" cy="1116720"/>
          </a:xfrm>
        </p:grpSpPr>
        <p:sp>
          <p:nvSpPr>
            <p:cNvPr id="238" name=""/>
            <p:cNvSpPr/>
            <p:nvPr/>
          </p:nvSpPr>
          <p:spPr>
            <a:xfrm>
              <a:off x="2133720" y="1827000"/>
              <a:ext cx="7010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question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问题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疑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br>
                <a:rPr sz="2800"/>
              </a:b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v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审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怀疑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143000" y="177948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143000" y="3200400"/>
            <a:ext cx="8001000" cy="990360"/>
            <a:chOff x="1143000" y="3200400"/>
            <a:chExt cx="8001000" cy="990360"/>
          </a:xfrm>
        </p:grpSpPr>
        <p:sp>
          <p:nvSpPr>
            <p:cNvPr id="241" name=""/>
            <p:cNvSpPr/>
            <p:nvPr/>
          </p:nvSpPr>
          <p:spPr>
            <a:xfrm>
              <a:off x="2133720" y="335268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girl: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女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少女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143000" y="3200400"/>
              <a:ext cx="9907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143000" y="4648320"/>
            <a:ext cx="8001000" cy="1066680"/>
            <a:chOff x="1143000" y="4648320"/>
            <a:chExt cx="8001000" cy="10666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143000" y="4648320"/>
              <a:ext cx="94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33720" y="487692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boy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男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儿子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孩子气的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2:13:33Z</dcterms:created>
  <dc:creator>XuYing</dc:creator>
  <dc:description/>
  <dc:language>en-US</dc:language>
  <cp:lastModifiedBy>luomingjiang</cp:lastModifiedBy>
  <dcterms:modified xsi:type="dcterms:W3CDTF">2005-09-17T00:20:4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